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A4A-B5EE-40A6-9ABD-4F5545B6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E69-2F24-4F0F-93D6-58BC737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2FA-0D52-483C-B756-FAAA1448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4D8-0624-4748-AE4E-115BFAF6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B84-6128-48FA-B6B7-34227F5A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5F4-00B9-42D9-B268-18C91132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8B9-E535-498D-B42E-119C7DDD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A0F-5BCE-43A1-A794-A8E7CFB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A9F-4B49-4F75-BEAB-AF026ACE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538-29EB-460E-8870-F65A9238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D10-0A4A-4256-95B9-1092438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65F-EFD4-4035-B9E5-0A59A3B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26F-D738-4F0E-889D-53A49DD59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295280"/>
            <a:ext cx="8382240" cy="4572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46-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K. 3:7-12; MATT. 12:15-21; LK. 6:12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Great Galilean Ministry -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6BA-2119-4D7F-A66A-523FAED2487C}" type="slidenum">
              <a:t>1</a:t>
            </a:fld>
          </a:p>
        </p:txBody>
      </p:sp>
    </p:spTree>
  </p:cSld>
  <p:transition spd="med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ght Into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n The Temple At Age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f Jo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11E-331C-43E0-91AB-5A3DD77530E1}" type="slidenum">
              <a:t>2</a:t>
            </a:fld>
          </a:p>
        </p:txBody>
      </p:sp>
    </p:spTree>
  </p:cSld>
  <p:transition spd="med" advTm="2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ptism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tations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’s Testimony of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iracle In C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sing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aches In Judea’s Country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s to Galil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10B-BA14-4C4E-8B67-2E109A22BDA9}" type="slidenum">
              <a:t>3</a:t>
            </a:fld>
          </a:p>
        </p:txBody>
      </p:sp>
    </p:spTree>
  </p:cSld>
  <p:transition spd="med" advTm="25000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ife of Chris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826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ernaum – He returns there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les Called - Peter, Andrew, James, and John to be fishers of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Mul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Mira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hew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2F5-9F79-4D23-AC18-1E4B92FDDCEA}" type="slidenum">
              <a:t>4</a:t>
            </a:fld>
          </a:p>
        </p:txBody>
      </p:sp>
    </p:spTree>
  </p:cSld>
  <p:transition spd="med" advTm="30000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4:18:45Z</dcterms:created>
  <dc:creator>billy lauderdale</dc:creator>
  <dc:description/>
  <dc:language>en-US</dc:language>
  <cp:lastModifiedBy>Frank D Vines</cp:lastModifiedBy>
  <dcterms:modified xsi:type="dcterms:W3CDTF">2006-08-13T13:20:44Z</dcterms:modified>
  <cp:revision>23</cp:revision>
  <dc:subject/>
  <dc:title>SIR, WE WOULD SEE JESUS  -GREAT GALILEAN MINISTRY- </dc:title>
</cp:coreProperties>
</file>